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5EF0D45-889C-4082-8A21-59F0CA8C7C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BDF84D4-46AA-46B1-B7B9-47734E500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B9CB8B2-1997-44D0-9524-14B3B78F17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135-290F-47E0-A764-CED4ED42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C17-9E05-42FB-8899-E1F8239A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D986-7277-427D-B9D0-A31A4A99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B7D7-22DB-498C-B466-AA45612D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EA9B-D97B-4580-8A0D-571F410A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FEC0-D082-4333-9567-8DE73A10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F50-8AF4-4822-BF80-8E0E82FD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3F3-62AF-46CF-B01D-31E3F446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592-023F-45FE-A52C-8BECC72B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A7D-4B6C-4C5C-9E92-B8FDC8E5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742-C11E-4878-B86C-B2029586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296-5D8D-41F2-8352-8B716EAB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0CB4A4B-DDCF-4401-A319-58E18F086B64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636EF0B-C887-4D0A-8526-1B01B8988513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2004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152280" y="685800"/>
            <a:ext cx="29718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Fact &amp; Opi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 fact is a statement that can be proved &amp; an opinion tells what you think, feel or believe.  Reread Exploring Parks with Ranger Dockett.  Find &amp; write 4 facts and 4 opinions from the text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971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 Ph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Consonant Clusters)  Write the words below.  Underline the consonant clusters in each word.  (ex.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tr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wim step nest  club  st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brave  l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lad  tr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200400" y="4952880"/>
            <a:ext cx="33526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urrent ski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ammar:  A command sent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rite 6 command sentences.  A command sentence tells someone what to do.  Make sure that your sentence begins with a capital letter, ends with a period and has the understood subject y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Ex. Please sit down.  Stay off the grass.)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itials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629400" y="76212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ling (.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out a story you are reading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52280" y="2746440"/>
            <a:ext cx="264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estion (?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be answered by a story’s main character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352680" y="1219320"/>
            <a:ext cx="25606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each word 3 times in your best handwri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nbow Spe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ay type (preferred) or write each word with vowels and consonants in a different font style or c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321000" y="2870280"/>
            <a:ext cx="2959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e a paragraph about nature, plants, or animals.  Begin your paragraph with a main idea that explains what your paragraph is about and add details that tell more about the main idea.  Remember to indent when writing a paragraph.  Draw a picture of your main ide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781680" y="5029200"/>
            <a:ext cx="256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5 sentences that us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otation (“ ”) mark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show someone speaking. Write a conversation by the characters in you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Exploring Parks with Ranger Dockett.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udents must complete Tic-Tac-Toe (three in a row – and they must use the center square). All work should be completed in the student’s homework journal. The journal, with completed work,  and the board, with parent initials are due: ______________11/4__________________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7924680" y="457200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r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itials: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3:24:36Z</dcterms:created>
  <dc:creator> </dc:creator>
  <dc:description/>
  <dc:language>en-US</dc:language>
  <cp:lastModifiedBy>Mits Mits</cp:lastModifiedBy>
  <cp:lastPrinted>2009-10-26T13:30:29Z</cp:lastPrinted>
  <dcterms:modified xsi:type="dcterms:W3CDTF">2009-10-26T13:30:53Z</dcterms:modified>
  <cp:revision>22</cp:revision>
  <dc:subject/>
  <dc:title>Slide 1</dc:title>
</cp:coreProperties>
</file>